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907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 type="sldImg"/>
          </p:nvPr>
        </p:nvSpPr>
        <p:spPr>
          <a:xfrm>
            <a:off x="952560" y="685440"/>
            <a:ext cx="49528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61935-0680-4AB4-9425-AF88DF775C7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ldImg"/>
          </p:nvPr>
        </p:nvSpPr>
        <p:spPr>
          <a:xfrm>
            <a:off x="952560" y="685800"/>
            <a:ext cx="4952880" cy="3429000"/>
          </a:xfrm>
          <a:prstGeom prst="rect">
            <a:avLst/>
          </a:prstGeom>
          <a:ln w="0">
            <a:noFill/>
          </a:ln>
        </p:spPr>
      </p:sp>
      <p:sp>
        <p:nvSpPr>
          <p:cNvPr id="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7ADA4C-CA18-4D23-AD1C-401E4843704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13" descr="Kalvopohja"/>
          <p:cNvPicPr/>
          <p:nvPr/>
        </p:nvPicPr>
        <p:blipFill>
          <a:blip r:embed="rId2"/>
          <a:stretch/>
        </p:blipFill>
        <p:spPr>
          <a:xfrm>
            <a:off x="0" y="0"/>
            <a:ext cx="9906120" cy="68594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mailto:hrfinland@agnico-eagle.com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TextBox 1"/>
          <p:cNvSpPr/>
          <p:nvPr/>
        </p:nvSpPr>
        <p:spPr>
          <a:xfrm>
            <a:off x="523800" y="738360"/>
            <a:ext cx="8470800" cy="745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Agnico-Eagle Finland Oy, Kittilän kaivos hakee palvelukseensa kesäksi 2012 oma-aloitteisia, ahkeria ja innokkaita </a:t>
            </a:r>
            <a:r>
              <a:rPr b="1" lang="fi-FI" sz="2000" spc="-1" strike="noStrike">
                <a:solidFill>
                  <a:srgbClr val="000000"/>
                </a:solidFill>
                <a:latin typeface="Garamond"/>
              </a:rPr>
              <a:t>KESÄTYÖNTEKIJÖITÄ JA TYÖHARJOITTELIJOITA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 tuotannon eri tehtäviin</a:t>
            </a:r>
            <a:r>
              <a:rPr b="1" lang="fi-FI" sz="2000" spc="-1" strike="noStrike">
                <a:solidFill>
                  <a:srgbClr val="000000"/>
                </a:solidFill>
                <a:latin typeface="Garamond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Tehtävät ovat moninaisia kaivokseen, kaivossuunnitteluun, geologiaan, metallurgiaan, prosessitekniikkaan, ympäristöön, laboratorioon, logistiikkaan ja hallintoon liittyviä työtehtäviä. Myös opintoihin liittyvät harjoittelutyöt ja päättötyöt ovat mahdollis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Hakemukset ansioluetteloineen pyydetään toimittamaan 29.2.2012 klo 16.00 mennessä sähköisesti osoitteeseen </a:t>
            </a:r>
            <a:r>
              <a:rPr b="0" lang="fi-FI" sz="2000" spc="-1" strike="noStrike" u="sng">
                <a:solidFill>
                  <a:srgbClr val="009999"/>
                </a:solidFill>
                <a:uFillTx/>
                <a:latin typeface="Garamond"/>
                <a:hlinkClick r:id="rId1"/>
              </a:rPr>
              <a:t>hrfinland@agnico-eagle.com</a:t>
            </a:r>
            <a:r>
              <a:rPr b="0" lang="fi-FI" sz="2000" spc="-1" strike="noStrike">
                <a:solidFill>
                  <a:srgbClr val="222268"/>
                </a:solidFill>
                <a:latin typeface="Garamond"/>
              </a:rPr>
              <a:t>.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 Hakemuksessa tulee ilmoittaa, missä oppilaitoksessa hakija opiskelee, missä vaiheessa opinnot ovat ja millaista työtä hakija hakee. Mahdollisesta asunnontarpeesta tulee myös kerto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Palkkaus määräytyy teknologiateollisuuden työehtosopimusten mukaa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Kesätyöntekijävalinnat tehdään maaliskuun aikana ja kaikille hakijoil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ilmoitetaan henkilökohtaisesti.    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	</a:t>
            </a:r>
            <a:r>
              <a:rPr b="0" lang="fi-FI" sz="2000" spc="-1" strike="noStrike">
                <a:solidFill>
                  <a:srgbClr val="000000"/>
                </a:solidFill>
                <a:latin typeface="Garamond"/>
              </a:rPr>
              <a:t>Terveisin Agnico-Eagle H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15T07:55:30Z</dcterms:created>
  <dc:creator>Maritta Lehtonen</dc:creator>
  <dc:description/>
  <dc:language>en-US</dc:language>
  <cp:lastModifiedBy>Paula Neitola</cp:lastModifiedBy>
  <cp:lastPrinted>2007-11-21T12:53:47Z</cp:lastPrinted>
  <dcterms:modified xsi:type="dcterms:W3CDTF">2012-01-24T06:18:48Z</dcterms:modified>
  <cp:revision>174</cp:revision>
  <dc:subject/>
  <dc:title>PowerPoint Presentation</dc:title>
</cp:coreProperties>
</file>