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D6BF-8F02-4105-BC60-5F7A94842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4869-458C-42CB-BB5A-28B8FB9EA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Kalvopohja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rfinland@agnico-eagle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23800" y="738360"/>
            <a:ext cx="84708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Agnico-Eagle Finland Oy, Kittilän kaivos hakee palvelukseensa kesäksi 2012 oma-aloitteisia, ahkeria ja innokkaita </a:t>
            </a:r>
            <a:r>
              <a:rPr b="1" lang="fi-FI" sz="2000" spc="-1" strike="noStrike">
                <a:solidFill>
                  <a:srgbClr val="000000"/>
                </a:solidFill>
                <a:latin typeface="Garamond"/>
              </a:rPr>
              <a:t>KESÄTYÖNTEKIJÖITÄ JA TYÖHARJOITTELIJOITA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 tuotannon eri tehtäviin</a:t>
            </a:r>
            <a:r>
              <a:rPr b="1" lang="fi-F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Tehtävät ovat moninaisia kaivokseen, kaivossuunnitteluun, geologiaan, metallurgiaan, prosessitekniikkaan, ympäristöön, laboratorioon, logistiikkaan ja hallintoon liittyviä työtehtäviä. Myös opintoihin liittyvät harjoittelutyöt ja päättötyöt ovat mahdolli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Hakemukset ansioluetteloineen pyydetään toimittamaan 29.2.2012 klo 16.00 mennessä sähköisesti osoitteeseen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rfinland@agnico-eagle.com</a:t>
            </a:r>
            <a:r>
              <a:rPr b="0" lang="fi-FI" sz="2000" spc="-1" strike="noStrike">
                <a:solidFill>
                  <a:srgbClr val="222268"/>
                </a:solidFill>
                <a:latin typeface="Garamond"/>
              </a:rPr>
              <a:t>.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 Hakemuksessa tulee ilmoittaa, missä oppilaitoksessa hakija opiskelee, missä vaiheessa opinnot ovat ja millaista työtä hakija hakee. Mahdollisesta asunnontarpeesta tulee myös kert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Palkkaus määräytyy teknologiateollisuuden työehtosopimusten muk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Kesätyöntekijävalinnat tehdään maaliskuun aikana ja kaikille hakijo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ilmoitetaan henkilökohtaisesti.    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Terveisin Agnico-Eagle 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7:55:30Z</dcterms:created>
  <dc:creator>Maritta Lehtonen</dc:creator>
  <dc:description/>
  <dc:language>en-US</dc:language>
  <cp:lastModifiedBy>Paula Neitola</cp:lastModifiedBy>
  <cp:lastPrinted>2007-11-21T12:53:47Z</cp:lastPrinted>
  <dcterms:modified xsi:type="dcterms:W3CDTF">2012-01-24T06:18:48Z</dcterms:modified>
  <cp:revision>174</cp:revision>
  <dc:subject/>
  <dc:title>PowerPoint Presentation</dc:title>
</cp:coreProperties>
</file>