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7880"/>
            <a:ext cx="5116680" cy="3837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lajoenti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386B-0478-4860-8B04-74BE24BA4D8E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Rectangle 6"/>
          <p:cNvSpPr/>
          <p:nvPr/>
        </p:nvSpPr>
        <p:spPr>
          <a:xfrm>
            <a:off x="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Kalajoentie 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7"/>
          <p:cNvSpPr/>
          <p:nvPr/>
        </p:nvSpPr>
        <p:spPr>
          <a:xfrm>
            <a:off x="4021200" y="9720360"/>
            <a:ext cx="3076560" cy="51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D5C1A-48E8-4CD5-AA32-7D7DCF052CC3}" type="slidenum">
              <a:rPr b="0" lang="fi-FI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sldImg"/>
          </p:nvPr>
        </p:nvSpPr>
        <p:spPr>
          <a:xfrm>
            <a:off x="992160" y="768240"/>
            <a:ext cx="5116680" cy="3837240"/>
          </a:xfrm>
          <a:prstGeom prst="rect">
            <a:avLst/>
          </a:prstGeom>
          <a:ln w="0">
            <a:noFill/>
          </a:ln>
        </p:spPr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709560" y="4862520"/>
            <a:ext cx="5680080" cy="460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EB847-75F0-478B-B541-E946D1F51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2FA75-414A-49C8-B0ED-65D3B2935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D84C9-A613-4BFD-9719-59B057FDE8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6FD87-9413-47D0-86DB-1C7D1BC079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3E54C5-72FB-4691-983D-DC0320BF72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24FA2C-9A63-4060-B236-B72AAC1FFE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F8E8C6-4AAD-4B95-8F2C-1281AC541E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1FC4-2C9C-4D07-91FE-0DF83636E2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84F5C-5949-4316-99A6-41881DE427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44F53-469F-4613-888B-9F177F4181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00745-4265-48C4-95CD-738122D832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D5A5-8F28-4230-9E42-43FBCC0C8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i-FI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D373D4-B804-4D32-B707-FED940D49280}" type="slidenum">
              <a:rPr b="0" lang="fi-FI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2" descr=""/>
          <p:cNvPicPr/>
          <p:nvPr/>
        </p:nvPicPr>
        <p:blipFill>
          <a:blip r:embed="rId1"/>
          <a:stretch/>
        </p:blipFill>
        <p:spPr>
          <a:xfrm>
            <a:off x="5292720" y="3429000"/>
            <a:ext cx="3635280" cy="3247920"/>
          </a:xfrm>
          <a:prstGeom prst="rect">
            <a:avLst/>
          </a:prstGeom>
          <a:ln w="0">
            <a:noFill/>
          </a:ln>
        </p:spPr>
      </p:pic>
      <p:sp>
        <p:nvSpPr>
          <p:cNvPr id="49" name="PlaceHolder 1"/>
          <p:cNvSpPr>
            <a:spLocks noGrp="1"/>
          </p:cNvSpPr>
          <p:nvPr>
            <p:ph/>
          </p:nvPr>
        </p:nvSpPr>
        <p:spPr>
          <a:xfrm>
            <a:off x="179280" y="3573000"/>
            <a:ext cx="4680000" cy="3700440"/>
          </a:xfrm>
          <a:prstGeom prst="rect">
            <a:avLst/>
          </a:prstGeom>
          <a:noFill/>
          <a:ln w="0">
            <a:noFill/>
          </a:ln>
        </p:spPr>
        <p:txBody>
          <a:bodyPr anchor="t" anchorCtr="1">
            <a:normAutofit fontScale="95000"/>
          </a:bodyPr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Carement Oy on keväällä 2006 toimintansa aloittanut infra-alan moniosaaj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oimintamme vahva lähtökohta on sertifioitu laatujärjestelmä, joka taka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asiakkaalle varman ja toimivan kokonaisuuden. Tarjontamme kattaa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rakennuttamisen aina hankkeen suunnittelusta sen valmistumiseen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akuuajan seurantaa unohtamatta. Toimipaikkamme sijaitsevat Kalajoella,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Rovaniemellä, Oulussa, Suonenjoella ja Vantaalla.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Haemme 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DI- ja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insinööriopiskelijoita 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kesätöihin lähinnä tiestö- ja katumittauksiin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kesäkaudelle 2012.  Mahdollisesti aihe myös insinöörityölle. Edellytämm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Kesätyöntekijöiltämme  oma-aloitteisuutta ja matkustusvalmiutta. Tarjoamme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mielenkiintoisia  työtehtäviä sekä mahdollisuuden tutustua infra-alan eri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toimintoihin ja tuotteisiin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Lähetä hakemuksesi 31.3.2012 mennessä sähköpostilla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 u="sng">
                <a:solidFill>
                  <a:srgbClr val="000000"/>
                </a:solidFill>
                <a:uFillTx/>
                <a:latin typeface="Arial"/>
              </a:rPr>
              <a:t>Matias.karkkainen@carement.fi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Merkitse viestiin </a:t>
            </a:r>
            <a:r>
              <a:rPr b="1" lang="fi-FI" sz="1100" spc="-1" strike="noStrike">
                <a:solidFill>
                  <a:srgbClr val="000000"/>
                </a:solidFill>
                <a:latin typeface="Arial"/>
              </a:rPr>
              <a:t>”Kesätyö”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1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86"/>
          <p:cNvSpPr/>
          <p:nvPr/>
        </p:nvSpPr>
        <p:spPr>
          <a:xfrm>
            <a:off x="324720" y="3068640"/>
            <a:ext cx="2923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2000" spc="-1" strike="noStrike">
                <a:solidFill>
                  <a:srgbClr val="000000"/>
                </a:solidFill>
                <a:latin typeface="Arial"/>
              </a:rPr>
              <a:t>KESÄTYÖNTEKIJÖITÄ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31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2944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5-30T07:24:19Z</dcterms:created>
  <dc:creator>AltAvanti</dc:creator>
  <dc:description/>
  <dc:language>en-US</dc:language>
  <cp:lastModifiedBy>Omistaja</cp:lastModifiedBy>
  <dcterms:modified xsi:type="dcterms:W3CDTF">2012-02-23T13:33:13Z</dcterms:modified>
  <cp:revision>31</cp:revision>
  <dc:subject/>
  <dc:title>Dia 1</dc:title>
</cp:coreProperties>
</file>