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lajoenti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8AC8-E070-4540-9463-4EC359A6391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lajoenti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EABC-4153-4554-854F-AF90554CEA9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0A7-8219-423C-BFCB-05EED90C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2F6-E677-4E65-AE99-4B9EE9A6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1D4-2BC1-4F5D-9563-DDD19881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195-3DA8-4559-AF5B-771D1FAE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63F-BE0D-4E3C-A831-10994242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542-5D2D-451D-A222-3D01F10D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602-5579-46FD-B753-E6669E94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027-EF0A-4F5F-8BA8-A2691B99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7DA-1CBD-460B-AA50-2058F206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B9E-EBDB-47CD-9BAA-38D716E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FEB-B0CA-4270-90CF-90BAF3A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6AD-663F-424B-9503-B41EC02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71AB-32B3-4FFC-A78E-8A43B1505FCF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2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3635280" cy="324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4680000" cy="3700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Carement Oy on keväällä 2006 toimintansa aloittanut infra-alan moniosaaj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oimintamme vahva lähtökohta on sertifioitu laatujärjestelmä, joka taka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asiakkaalle varman ja toimivan kokonaisuuden. Tarjontamme katta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rakennuttamisen aina hankkeen suunnittelusta sen valmistumisee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akuuajan seurantaa unohtamatta. Toimipaikkamme sijaitsevat Kalajoell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Rovaniemellä, Oulussa, Suonenjoella ja Vantaall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Haemme 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DI- ja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insinööriopiskelijoita 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kesätöihin lähinnä tiestö- ja katumittauksi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kesäkaudelle 2012.  Mahdollisesti aihe myös insinöörityölle. Edellytämm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Kesätyöntekijöiltämme  oma-aloitteisuutta ja matkustusvalmiutta. Tarjoamm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mielenkiintoisia  työtehtäviä sekä mahdollisuuden tutustua infra-alan er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oimintoihin ja tuotteisi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Lähetä hakemuksesi 31.3.2012 mennessä sähköpostil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 u="sng">
                <a:solidFill>
                  <a:srgbClr val="000000"/>
                </a:solidFill>
                <a:uFillTx/>
                <a:latin typeface="Arial"/>
              </a:rPr>
              <a:t>Matias.karkkainen@carement.f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Merkitse viestiin 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”Kesätyö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6"/>
          <p:cNvSpPr/>
          <p:nvPr/>
        </p:nvSpPr>
        <p:spPr>
          <a:xfrm>
            <a:off x="324720" y="3068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KESÄTYÖNTEKIJÖI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7:24:19Z</dcterms:created>
  <dc:creator>AltAvanti</dc:creator>
  <dc:description/>
  <dc:language>en-US</dc:language>
  <cp:lastModifiedBy>Omistaja</cp:lastModifiedBy>
  <dcterms:modified xsi:type="dcterms:W3CDTF">2012-02-23T13:33:13Z</dcterms:modified>
  <cp:revision>31</cp:revision>
  <dc:subject/>
  <dc:title>Dia 1</dc:title>
</cp:coreProperties>
</file>